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9.png" ContentType="image/png"/>
  <Override PartName="/ppt/media/image13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FB7F-748A-42A4-9CA2-E4F51E043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DBF6-5A99-4E41-8DCE-5018B3CE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2C4F-EFBE-47CC-90FB-AF35D6AD7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F29F-8E03-46CF-9503-F181E4DFC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C46D-9829-472D-B48B-C9A4697AE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CA17-6131-44C6-B629-153B9D17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15D4-27B1-4585-880C-BFFC32A6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AFD52-DB9F-41F9-B5B3-FE602704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D2F1-2F61-4252-B2BA-CC785C2E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377F-B75A-4B72-A2F6-A3C5A00D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7A8B-AE52-4495-B06F-2A0E8877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50F3-A156-4E31-A1B6-5D867C6E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72DF2-1E6D-44FF-A2F4-A87F541D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F66C-8133-4DF9-93C8-9F7F84AF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56F7-9976-468A-96C6-1BAE3664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18C9-F367-4134-9202-3FC4D1A53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68C4-FE92-4A92-8EC7-966A20773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67F0-D92F-4E7B-829B-FB519E25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553B-8FBA-458F-9A4F-5C357534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EAA5-FCDA-4359-9D21-56530EA3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CF8E-B224-4B24-A584-6C4F98FA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013F-41B9-4FFE-BB8C-1447D8C3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66CB-F731-4D60-9A84-FFC28BBE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D012-F777-4C2D-AD4B-EADA40F5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F887-47A2-46E4-AA05-4063580443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A423-E67B-41A3-ADD1-F0965753343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13.png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14.png"/><Relationship Id="rId6" Type="http://schemas.openxmlformats.org/officeDocument/2006/relationships/image" Target="../media/image2.wmf"/><Relationship Id="rId7" Type="http://schemas.openxmlformats.org/officeDocument/2006/relationships/oleObject" Target="../embeddings/oleObject1.bin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16.jpeg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2.wmf"/><Relationship Id="rId6" Type="http://schemas.openxmlformats.org/officeDocument/2006/relationships/oleObject" Target="../embeddings/oleObject1.bin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17.png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2.wmf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2.wmf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http://www.toledo-bend.com/colorblind/Ishihara.html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2.wmf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7280" cy="6094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28440" y="457200"/>
            <a:ext cx="5181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CP Psychology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1905120"/>
            <a:ext cx="838188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CHAPTER 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Tahoma"/>
              </a:rPr>
              <a:t>Sensation and Percep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Section 5Q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r. Freccia, NH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lencoe Publis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467480" y="44280"/>
            <a:ext cx="1676520" cy="1481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7280" cy="6094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Sensation &amp; Perception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3520" y="1905120"/>
            <a:ext cx="838188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523880" y="1066680"/>
            <a:ext cx="642960" cy="6858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3276720" y="1219320"/>
            <a:ext cx="1350720" cy="4665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5867280" y="1143000"/>
            <a:ext cx="603360" cy="6094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228600" y="2438280"/>
            <a:ext cx="861048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earing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ibration is converted to neural impulses which travel along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uditory ne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cibe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asure sound wave intensity (loudne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it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asures high/low frequency (in-tu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5"/>
          <a:stretch/>
        </p:blipFill>
        <p:spPr>
          <a:xfrm>
            <a:off x="7467480" y="44280"/>
            <a:ext cx="1676520" cy="1481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33520" y="1905120"/>
            <a:ext cx="838188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3276720" y="1219320"/>
            <a:ext cx="1350720" cy="4665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76320" y="76320"/>
            <a:ext cx="5029200" cy="60195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5029200" y="2133720"/>
            <a:ext cx="411480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buClr>
                <a:srgbClr val="ffcf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Noise &amp;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ffcf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e not only affects hearing it also affects our behavior (stressor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ffcf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e is especially stressful when unanticipated or uncontrol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52280" y="60958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Tahoma"/>
              </a:rPr>
              <a:t>A 10 decibel increase results in a </a:t>
            </a:r>
            <a:r>
              <a:rPr b="0" lang="en-US" sz="2400" spc="-1" strike="noStrike" u="sng">
                <a:solidFill>
                  <a:srgbClr val="6600cc"/>
                </a:solidFill>
                <a:uFillTx/>
                <a:latin typeface="Tahoma"/>
              </a:rPr>
              <a:t>ten-fold increase in 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3520" y="1905120"/>
            <a:ext cx="838188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7280" cy="6094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Sensation &amp; Perception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9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1905120"/>
            <a:ext cx="838188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1523880" y="1066680"/>
            <a:ext cx="642960" cy="68580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>
            <a:off x="3276720" y="1219320"/>
            <a:ext cx="1350720" cy="4665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4"/>
          <a:stretch/>
        </p:blipFill>
        <p:spPr>
          <a:xfrm>
            <a:off x="5867280" y="1143000"/>
            <a:ext cx="603360" cy="609480"/>
          </a:xfrm>
          <a:prstGeom prst="rect">
            <a:avLst/>
          </a:prstGeom>
          <a:ln w="0">
            <a:noFill/>
          </a:ln>
        </p:spPr>
      </p:pic>
      <p:grpSp>
        <p:nvGrpSpPr>
          <p:cNvPr id="308" name=""/>
          <p:cNvGrpSpPr/>
          <p:nvPr/>
        </p:nvGrpSpPr>
        <p:grpSpPr>
          <a:xfrm>
            <a:off x="228600" y="1955880"/>
            <a:ext cx="6745320" cy="4903200"/>
            <a:chOff x="228600" y="1955880"/>
            <a:chExt cx="6745320" cy="4903200"/>
          </a:xfrm>
        </p:grpSpPr>
        <p:sp>
          <p:nvSpPr>
            <p:cNvPr id="309" name=""/>
            <p:cNvSpPr/>
            <p:nvPr/>
          </p:nvSpPr>
          <p:spPr>
            <a:xfrm>
              <a:off x="959040" y="2875320"/>
              <a:ext cx="5892120" cy="275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959040" y="4254480"/>
              <a:ext cx="589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59040" y="4943880"/>
              <a:ext cx="589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513800" y="2875320"/>
              <a:ext cx="0" cy="275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068200" y="2875320"/>
              <a:ext cx="0" cy="275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692080" y="2875320"/>
              <a:ext cx="0" cy="275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811480" y="2875320"/>
              <a:ext cx="0" cy="275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315960" y="2875320"/>
              <a:ext cx="0" cy="275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39840" y="2875320"/>
              <a:ext cx="0" cy="275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563720" y="2875320"/>
              <a:ext cx="0" cy="275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87600" y="2875320"/>
              <a:ext cx="0" cy="275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435360" y="2875320"/>
              <a:ext cx="0" cy="275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31560" y="3103200"/>
              <a:ext cx="61344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28600" y="3792960"/>
              <a:ext cx="7264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40480" y="4480920"/>
              <a:ext cx="7110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41200" y="5141520"/>
              <a:ext cx="7095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22240" y="56192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25520" y="56192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827720" y="561924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418480" y="561924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040920" y="561924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596400" y="561924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220280" y="561924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844160" y="561924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09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536440" y="561924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19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160680" y="5619240"/>
              <a:ext cx="81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38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959040" y="3105000"/>
              <a:ext cx="589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959040" y="3105000"/>
              <a:ext cx="547596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959040" y="3257640"/>
              <a:ext cx="5337360" cy="306360"/>
              <a:chOff x="959040" y="3257640"/>
              <a:chExt cx="5337360" cy="306360"/>
            </a:xfrm>
          </p:grpSpPr>
          <p:sp>
            <p:nvSpPr>
              <p:cNvPr id="338" name=""/>
              <p:cNvSpPr/>
              <p:nvPr/>
            </p:nvSpPr>
            <p:spPr>
              <a:xfrm>
                <a:off x="959040" y="3258000"/>
                <a:ext cx="554760" cy="0"/>
              </a:xfrm>
              <a:prstGeom prst="line">
                <a:avLst/>
              </a:prstGeom>
              <a:ln w="7632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513800" y="3258000"/>
                <a:ext cx="554400" cy="76680"/>
              </a:xfrm>
              <a:prstGeom prst="line">
                <a:avLst/>
              </a:prstGeom>
              <a:ln w="7632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V="1">
                <a:off x="2068200" y="3257640"/>
                <a:ext cx="2356920" cy="76680"/>
              </a:xfrm>
              <a:prstGeom prst="line">
                <a:avLst/>
              </a:prstGeom>
              <a:ln w="7632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425120" y="3258000"/>
                <a:ext cx="762120" cy="153360"/>
              </a:xfrm>
              <a:prstGeom prst="line">
                <a:avLst/>
              </a:prstGeom>
              <a:ln w="7632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V="1">
                <a:off x="5187240" y="3334320"/>
                <a:ext cx="623520" cy="76680"/>
              </a:xfrm>
              <a:prstGeom prst="line">
                <a:avLst/>
              </a:prstGeom>
              <a:ln w="7632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811120" y="3334680"/>
                <a:ext cx="346320" cy="76680"/>
              </a:xfrm>
              <a:prstGeom prst="line">
                <a:avLst/>
              </a:prstGeom>
              <a:ln w="7632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157800" y="3411360"/>
                <a:ext cx="138600" cy="152640"/>
              </a:xfrm>
              <a:prstGeom prst="line">
                <a:avLst/>
              </a:prstGeom>
              <a:ln w="7632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959040" y="3487680"/>
              <a:ext cx="5129280" cy="305640"/>
              <a:chOff x="959040" y="3487680"/>
              <a:chExt cx="5129280" cy="305640"/>
            </a:xfrm>
          </p:grpSpPr>
          <p:sp>
            <p:nvSpPr>
              <p:cNvPr id="346" name=""/>
              <p:cNvSpPr/>
              <p:nvPr/>
            </p:nvSpPr>
            <p:spPr>
              <a:xfrm>
                <a:off x="5533920" y="3640680"/>
                <a:ext cx="277200" cy="76680"/>
              </a:xfrm>
              <a:prstGeom prst="line">
                <a:avLst/>
              </a:prstGeom>
              <a:ln w="7632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7" name=""/>
              <p:cNvGrpSpPr/>
              <p:nvPr/>
            </p:nvGrpSpPr>
            <p:grpSpPr>
              <a:xfrm>
                <a:off x="959040" y="3487680"/>
                <a:ext cx="5129280" cy="305640"/>
                <a:chOff x="959040" y="3487680"/>
                <a:chExt cx="5129280" cy="30564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959040" y="3488040"/>
                  <a:ext cx="1109160" cy="0"/>
                </a:xfrm>
                <a:prstGeom prst="line">
                  <a:avLst/>
                </a:prstGeom>
                <a:ln w="7632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2068200" y="3488040"/>
                  <a:ext cx="277200" cy="75960"/>
                </a:xfrm>
                <a:prstGeom prst="line">
                  <a:avLst/>
                </a:prstGeom>
                <a:ln w="7632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V="1">
                  <a:off x="2345400" y="3487680"/>
                  <a:ext cx="346320" cy="75960"/>
                </a:xfrm>
                <a:prstGeom prst="line">
                  <a:avLst/>
                </a:prstGeom>
                <a:ln w="7632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2691720" y="3488040"/>
                  <a:ext cx="1871280" cy="0"/>
                </a:xfrm>
                <a:prstGeom prst="line">
                  <a:avLst/>
                </a:prstGeom>
                <a:ln w="7632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4563360" y="3488040"/>
                  <a:ext cx="970200" cy="152640"/>
                </a:xfrm>
                <a:prstGeom prst="line">
                  <a:avLst/>
                </a:prstGeom>
                <a:ln w="7632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5811120" y="3717360"/>
                  <a:ext cx="277200" cy="75960"/>
                </a:xfrm>
                <a:prstGeom prst="line">
                  <a:avLst/>
                </a:prstGeom>
                <a:ln w="7632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4" name=""/>
            <p:cNvGrpSpPr/>
            <p:nvPr/>
          </p:nvGrpSpPr>
          <p:grpSpPr>
            <a:xfrm>
              <a:off x="959040" y="3640680"/>
              <a:ext cx="5198400" cy="842760"/>
              <a:chOff x="959040" y="3640680"/>
              <a:chExt cx="5198400" cy="842760"/>
            </a:xfrm>
          </p:grpSpPr>
          <p:sp>
            <p:nvSpPr>
              <p:cNvPr id="355" name=""/>
              <p:cNvSpPr/>
              <p:nvPr/>
            </p:nvSpPr>
            <p:spPr>
              <a:xfrm>
                <a:off x="959040" y="3717720"/>
                <a:ext cx="2218320" cy="0"/>
              </a:xfrm>
              <a:prstGeom prst="line">
                <a:avLst/>
              </a:prstGeom>
              <a:ln w="7632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3177360" y="3640680"/>
                <a:ext cx="138240" cy="76680"/>
              </a:xfrm>
              <a:prstGeom prst="line">
                <a:avLst/>
              </a:prstGeom>
              <a:ln w="7632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315600" y="3641040"/>
                <a:ext cx="1247400" cy="76680"/>
              </a:xfrm>
              <a:prstGeom prst="line">
                <a:avLst/>
              </a:prstGeom>
              <a:ln w="7632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563360" y="3717720"/>
                <a:ext cx="901080" cy="382680"/>
              </a:xfrm>
              <a:prstGeom prst="line">
                <a:avLst/>
              </a:prstGeom>
              <a:ln w="7632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464800" y="4100400"/>
                <a:ext cx="346320" cy="76680"/>
              </a:xfrm>
              <a:prstGeom prst="line">
                <a:avLst/>
              </a:prstGeom>
              <a:ln w="7632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811120" y="4177080"/>
                <a:ext cx="346320" cy="306360"/>
              </a:xfrm>
              <a:prstGeom prst="line">
                <a:avLst/>
              </a:prstGeom>
              <a:ln w="7632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959040" y="3794760"/>
              <a:ext cx="5198400" cy="1378440"/>
              <a:chOff x="959040" y="3794760"/>
              <a:chExt cx="5198400" cy="1378440"/>
            </a:xfrm>
          </p:grpSpPr>
          <p:sp>
            <p:nvSpPr>
              <p:cNvPr id="362" name=""/>
              <p:cNvSpPr/>
              <p:nvPr/>
            </p:nvSpPr>
            <p:spPr>
              <a:xfrm>
                <a:off x="959040" y="3947760"/>
                <a:ext cx="1039680" cy="76680"/>
              </a:xfrm>
              <a:prstGeom prst="line">
                <a:avLst/>
              </a:prstGeom>
              <a:ln w="76320">
                <a:solidFill>
                  <a:srgbClr val="ffc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1998720" y="3871080"/>
                <a:ext cx="693000" cy="153360"/>
              </a:xfrm>
              <a:prstGeom prst="line">
                <a:avLst/>
              </a:prstGeom>
              <a:ln w="76320">
                <a:solidFill>
                  <a:srgbClr val="ffc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2692080" y="3794760"/>
                <a:ext cx="623520" cy="76320"/>
              </a:xfrm>
              <a:prstGeom prst="line">
                <a:avLst/>
              </a:prstGeom>
              <a:ln w="76320">
                <a:solidFill>
                  <a:srgbClr val="ffc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315600" y="3794760"/>
                <a:ext cx="623520" cy="76320"/>
              </a:xfrm>
              <a:prstGeom prst="line">
                <a:avLst/>
              </a:prstGeom>
              <a:ln w="76320">
                <a:solidFill>
                  <a:srgbClr val="ffc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939480" y="3871080"/>
                <a:ext cx="623520" cy="153360"/>
              </a:xfrm>
              <a:prstGeom prst="line">
                <a:avLst/>
              </a:prstGeom>
              <a:ln w="76320">
                <a:solidFill>
                  <a:srgbClr val="ffc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563360" y="4024440"/>
                <a:ext cx="831600" cy="689400"/>
              </a:xfrm>
              <a:prstGeom prst="line">
                <a:avLst/>
              </a:prstGeom>
              <a:ln w="76320">
                <a:solidFill>
                  <a:srgbClr val="ffc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395320" y="4713840"/>
                <a:ext cx="415800" cy="0"/>
              </a:xfrm>
              <a:prstGeom prst="line">
                <a:avLst/>
              </a:prstGeom>
              <a:ln w="76320">
                <a:solidFill>
                  <a:srgbClr val="ffc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811120" y="4713840"/>
                <a:ext cx="346320" cy="459360"/>
              </a:xfrm>
              <a:prstGeom prst="line">
                <a:avLst/>
              </a:prstGeom>
              <a:ln w="76320">
                <a:solidFill>
                  <a:srgbClr val="ffc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1999080" y="6016680"/>
              <a:ext cx="446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requency of tone in waves per seco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138400" y="64908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912480" y="6490800"/>
              <a:ext cx="74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i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899680" y="649080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ig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692080" y="6706080"/>
              <a:ext cx="1247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4563360" y="6706080"/>
              <a:ext cx="1247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72880" y="1955880"/>
              <a:ext cx="23050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mplitude (loudness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quired f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erception relative t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-29 year-old grou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7010280" y="2819520"/>
            <a:ext cx="1905120" cy="27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-29 years 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-39 years 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-49 years 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-59 years 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0 years and 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6476760" y="3048120"/>
            <a:ext cx="533160" cy="75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6324120" y="3581280"/>
            <a:ext cx="7621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6172200" y="3885840"/>
            <a:ext cx="838080" cy="228600"/>
          </a:xfrm>
          <a:prstGeom prst="line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6248520" y="4572000"/>
            <a:ext cx="761760" cy="7632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6172200" y="5257800"/>
            <a:ext cx="914400" cy="0"/>
          </a:xfrm>
          <a:prstGeom prst="line">
            <a:avLst/>
          </a:prstGeom>
          <a:ln w="2844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2666160" y="1981080"/>
            <a:ext cx="5867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Older people suffer neural hearing loss for higher frequencies/low ampl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5"/>
          <a:stretch/>
        </p:blipFill>
        <p:spPr>
          <a:xfrm>
            <a:off x="7467480" y="44280"/>
            <a:ext cx="1676520" cy="1481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7280" cy="60948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Sensation &amp; Perception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0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33520" y="1905120"/>
            <a:ext cx="838188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1523880" y="1066680"/>
            <a:ext cx="642960" cy="68580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3276720" y="1219320"/>
            <a:ext cx="1350720" cy="46656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4"/>
          <a:stretch/>
        </p:blipFill>
        <p:spPr>
          <a:xfrm>
            <a:off x="5867280" y="1143000"/>
            <a:ext cx="603360" cy="60948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5"/>
          <a:stretch/>
        </p:blipFill>
        <p:spPr>
          <a:xfrm>
            <a:off x="1828800" y="2743200"/>
            <a:ext cx="5638680" cy="411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0" y="5334120"/>
            <a:ext cx="2209680" cy="703800"/>
          </a:xfrm>
          <a:prstGeom prst="rect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Reaches ear l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172200" y="5486400"/>
            <a:ext cx="2438280" cy="703800"/>
          </a:xfrm>
          <a:prstGeom prst="rect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Reaches ear soo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4419720" y="5181480"/>
            <a:ext cx="17524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2209680" y="5105520"/>
            <a:ext cx="3049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371600" y="1828800"/>
            <a:ext cx="6858000" cy="137376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ime delay between ears receiving sound waves contributes to locating its ori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6"/>
          <a:stretch/>
        </p:blipFill>
        <p:spPr>
          <a:xfrm>
            <a:off x="7467480" y="44280"/>
            <a:ext cx="1676520" cy="1481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52280" y="0"/>
            <a:ext cx="8763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7280" cy="60948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Sensation &amp; Perception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52280" y="0"/>
            <a:ext cx="8763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52280" y="0"/>
            <a:ext cx="8763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33520" y="1905120"/>
            <a:ext cx="838188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1523880" y="1066680"/>
            <a:ext cx="642960" cy="68580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3"/>
          <a:stretch/>
        </p:blipFill>
        <p:spPr>
          <a:xfrm>
            <a:off x="3276720" y="1219320"/>
            <a:ext cx="1350720" cy="46656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5867280" y="1143000"/>
            <a:ext cx="603360" cy="60948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28600" y="2076480"/>
            <a:ext cx="8915400" cy="44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Taste Sens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ffcf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ste is a “chemical” sense..sweet, sour, salty, bi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ffcf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Smel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ffcf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ell is also a “chemical” s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ffcf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cisely how olfactory receptors work is a myst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ffcf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ptors recognize odors individu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ffcf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Sensory Inte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ffcf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ciple that one sense may influence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ffcf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mell of food significantly influences its ta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5"/>
          <a:stretch/>
        </p:blipFill>
        <p:spPr>
          <a:xfrm>
            <a:off x="7467480" y="44280"/>
            <a:ext cx="1676520" cy="1481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52280" y="0"/>
            <a:ext cx="8763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7280" cy="60948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Sensation &amp; Perception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7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52280" y="0"/>
            <a:ext cx="8763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52280" y="0"/>
            <a:ext cx="8763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33520" y="1905120"/>
            <a:ext cx="838188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1523880" y="1066680"/>
            <a:ext cx="642960" cy="68580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3"/>
          <a:stretch/>
        </p:blipFill>
        <p:spPr>
          <a:xfrm>
            <a:off x="3276720" y="1219320"/>
            <a:ext cx="1350720" cy="46656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4"/>
          <a:stretch/>
        </p:blipFill>
        <p:spPr>
          <a:xfrm>
            <a:off x="5867280" y="1143000"/>
            <a:ext cx="603360" cy="60948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457200" y="19051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mell/Tas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emicals activate receptors which send signals along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olfactory ner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2666880" y="2971800"/>
            <a:ext cx="6477120" cy="3886200"/>
            <a:chOff x="2666880" y="2971800"/>
            <a:chExt cx="6477120" cy="3886200"/>
          </a:xfrm>
        </p:grpSpPr>
        <p:pic>
          <p:nvPicPr>
            <p:cNvPr id="438" name="" descr=""/>
            <p:cNvPicPr/>
            <p:nvPr/>
          </p:nvPicPr>
          <p:blipFill>
            <a:blip r:embed="rId5"/>
            <a:stretch/>
          </p:blipFill>
          <p:spPr>
            <a:xfrm>
              <a:off x="2666880" y="2971800"/>
              <a:ext cx="6477120" cy="38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5743440" y="3816360"/>
              <a:ext cx="269640" cy="16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689440" y="3534840"/>
              <a:ext cx="53964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66880" y="6181920"/>
              <a:ext cx="2266920" cy="45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254720" y="5224680"/>
              <a:ext cx="1888920" cy="135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135560" y="4913640"/>
              <a:ext cx="179244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ceptor cells 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lfactory membra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284160" y="4942800"/>
              <a:ext cx="82080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asa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ss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149800" y="4661280"/>
              <a:ext cx="1996920" cy="33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959440" y="5168160"/>
              <a:ext cx="32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7308720" y="4548600"/>
              <a:ext cx="108000" cy="33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7308360" y="4548600"/>
              <a:ext cx="431640" cy="33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7308360" y="4548600"/>
              <a:ext cx="215640" cy="33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690520" y="3534840"/>
              <a:ext cx="865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lfacto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ul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80360" y="3060720"/>
              <a:ext cx="86472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lfacto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r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5311800" y="3985560"/>
              <a:ext cx="593640" cy="50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 flipV="1">
              <a:off x="6121440" y="3929040"/>
              <a:ext cx="539280" cy="22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4933800" y="3534840"/>
              <a:ext cx="701640" cy="112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 flipV="1">
              <a:off x="6121080" y="3422160"/>
              <a:ext cx="809640" cy="732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56" name="" descr=""/>
          <p:cNvPicPr/>
          <p:nvPr/>
        </p:nvPicPr>
        <p:blipFill>
          <a:blip r:embed="rId6"/>
          <a:stretch/>
        </p:blipFill>
        <p:spPr>
          <a:xfrm>
            <a:off x="7467480" y="44280"/>
            <a:ext cx="1676520" cy="1481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7" name=""/>
          <p:cNvGraphicFramePr/>
          <p:nvPr/>
        </p:nvGraphicFramePr>
        <p:xfrm>
          <a:off x="304920" y="3276720"/>
          <a:ext cx="1933560" cy="3076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3276720"/>
                    <a:ext cx="1933560" cy="30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52280" y="0"/>
            <a:ext cx="8763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7280" cy="60948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Sensation &amp; Perception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4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52280" y="0"/>
            <a:ext cx="8763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52280" y="0"/>
            <a:ext cx="8763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33520" y="1905120"/>
            <a:ext cx="838188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1523880" y="1066680"/>
            <a:ext cx="642960" cy="68580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3"/>
          <a:stretch/>
        </p:blipFill>
        <p:spPr>
          <a:xfrm>
            <a:off x="3276720" y="1219320"/>
            <a:ext cx="1350720" cy="46656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4"/>
          <a:stretch/>
        </p:blipFill>
        <p:spPr>
          <a:xfrm>
            <a:off x="5867280" y="1143000"/>
            <a:ext cx="603360" cy="60948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228600" y="1905120"/>
            <a:ext cx="89154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5"/>
          <a:stretch/>
        </p:blipFill>
        <p:spPr>
          <a:xfrm>
            <a:off x="0" y="2362320"/>
            <a:ext cx="4400640" cy="449568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457200" y="5943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te Co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666880" y="60199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factory Co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1371600" y="4266720"/>
            <a:ext cx="838080" cy="1752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 flipV="1">
            <a:off x="2819160" y="4419360"/>
            <a:ext cx="15228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952880" y="2286000"/>
            <a:ext cx="3886200" cy="44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cf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Olfactory Cort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f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on temporal lobe near taste cort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f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ed to areas of memory storage which helps explain smell triggered mem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6"/>
          <a:stretch/>
        </p:blipFill>
        <p:spPr>
          <a:xfrm>
            <a:off x="7467480" y="44280"/>
            <a:ext cx="1676520" cy="1481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52280" y="0"/>
            <a:ext cx="8763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7280" cy="60948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838080" y="228600"/>
            <a:ext cx="6477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Sensation &amp; Percep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52280" y="0"/>
            <a:ext cx="8763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52280" y="0"/>
            <a:ext cx="8763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33520" y="1905120"/>
            <a:ext cx="838188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1523880" y="1066680"/>
            <a:ext cx="642960" cy="68580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3"/>
          <a:stretch/>
        </p:blipFill>
        <p:spPr>
          <a:xfrm>
            <a:off x="3276720" y="1219320"/>
            <a:ext cx="1350720" cy="46656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4"/>
          <a:stretch/>
        </p:blipFill>
        <p:spPr>
          <a:xfrm>
            <a:off x="5867280" y="1143000"/>
            <a:ext cx="603360" cy="60948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5"/>
          <a:stretch/>
        </p:blipFill>
        <p:spPr>
          <a:xfrm>
            <a:off x="7467480" y="44280"/>
            <a:ext cx="1676520" cy="1481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6" name=""/>
          <p:cNvGraphicFramePr/>
          <p:nvPr/>
        </p:nvGraphicFramePr>
        <p:xfrm>
          <a:off x="4038480" y="2362320"/>
          <a:ext cx="1933560" cy="3076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038480" y="2362320"/>
                    <a:ext cx="1933560" cy="30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"/>
          <p:cNvSpPr/>
          <p:nvPr/>
        </p:nvSpPr>
        <p:spPr>
          <a:xfrm>
            <a:off x="6095880" y="3429000"/>
            <a:ext cx="10670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f01"/>
                </a:solidFill>
                <a:latin typeface="Tahoma"/>
              </a:rPr>
              <a:t>Bi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al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ahoma"/>
              </a:rPr>
              <a:t>Swe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5562360" y="5029200"/>
            <a:ext cx="53316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5715000" y="4572000"/>
            <a:ext cx="38088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5715000" y="41148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5105160" y="365760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52280" y="0"/>
            <a:ext cx="8763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7280" cy="60948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Sensation &amp; Perception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52280" y="0"/>
            <a:ext cx="8763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52280" y="0"/>
            <a:ext cx="8763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33520" y="1905120"/>
            <a:ext cx="838188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1523880" y="1066680"/>
            <a:ext cx="642960" cy="68580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3"/>
          <a:stretch/>
        </p:blipFill>
        <p:spPr>
          <a:xfrm>
            <a:off x="3276720" y="1219320"/>
            <a:ext cx="1350720" cy="46656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4"/>
          <a:stretch/>
        </p:blipFill>
        <p:spPr>
          <a:xfrm>
            <a:off x="5867280" y="1143000"/>
            <a:ext cx="603360" cy="6094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228600" y="1905120"/>
            <a:ext cx="89154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28600" y="2286000"/>
            <a:ext cx="8610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5"/>
          <a:stretch/>
        </p:blipFill>
        <p:spPr>
          <a:xfrm>
            <a:off x="380880" y="1981080"/>
            <a:ext cx="3606840" cy="464832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3962520" y="1905120"/>
            <a:ext cx="51814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kin Sensations (Touc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sure is the only skin sensation with identifiable recep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hip between warmth, cold, pain remains a myst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warm/cold receptors are activated together you feel “ho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6"/>
          <a:stretch/>
        </p:blipFill>
        <p:spPr>
          <a:xfrm>
            <a:off x="7467480" y="44280"/>
            <a:ext cx="1676520" cy="1481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7280" cy="6094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1905120"/>
            <a:ext cx="838188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523880" y="1066680"/>
            <a:ext cx="642960" cy="685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276720" y="1219320"/>
            <a:ext cx="1350720" cy="4665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5867280" y="1143000"/>
            <a:ext cx="603360" cy="6094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880" y="1905120"/>
            <a:ext cx="8305920" cy="49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The Human Sen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7 Sense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… Hearing …Taste-Smell …Touch/Skin Sensation …Vestibular … Kinesthe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s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ight enters the eye through the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Times New Roman"/>
              </a:rPr>
              <a:t>Pup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s focused (and inverted) by the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Times New Roman"/>
              </a:rPr>
              <a:t>Len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projected onto the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Times New Roman"/>
              </a:rPr>
              <a:t>R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Times New Roman"/>
              </a:rPr>
              <a:t>Con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Times New Roman"/>
              </a:rPr>
              <a:t>Reti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ere it is converted to neural impulses and sent through the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Times New Roman"/>
              </a:rPr>
              <a:t>Optic Ner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lind spot) to the b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7467480" y="44280"/>
            <a:ext cx="1676520" cy="1481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52280" y="0"/>
            <a:ext cx="8763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7280" cy="60948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Sensation &amp; Perception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7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52280" y="0"/>
            <a:ext cx="8763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52280" y="0"/>
            <a:ext cx="8763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33520" y="1905120"/>
            <a:ext cx="838188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1523880" y="1066680"/>
            <a:ext cx="642960" cy="68580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3"/>
          <a:stretch/>
        </p:blipFill>
        <p:spPr>
          <a:xfrm>
            <a:off x="3276720" y="1219320"/>
            <a:ext cx="1350720" cy="46656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4"/>
          <a:stretch/>
        </p:blipFill>
        <p:spPr>
          <a:xfrm>
            <a:off x="5867280" y="1143000"/>
            <a:ext cx="603360" cy="60948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228600" y="1905120"/>
            <a:ext cx="89154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2057400"/>
            <a:ext cx="2895480" cy="27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Vestibular Sens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ree semicircular canals in the ear regulate the sense of 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5"/>
          <a:stretch/>
        </p:blipFill>
        <p:spPr>
          <a:xfrm>
            <a:off x="7467480" y="44280"/>
            <a:ext cx="1676520" cy="148140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6"/>
          <a:stretch/>
        </p:blipFill>
        <p:spPr>
          <a:xfrm>
            <a:off x="2819520" y="1797120"/>
            <a:ext cx="6324480" cy="399420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0" y="59119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Kinesthetic Sens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Kinesthes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ceptors in muscles, tendons, and joints assist with posture and 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1828800" y="2895480"/>
            <a:ext cx="3200400" cy="1447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7280" cy="6094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Sensation &amp; Perception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1905120"/>
            <a:ext cx="838188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523880" y="1066680"/>
            <a:ext cx="642960" cy="685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3276720" y="1219320"/>
            <a:ext cx="1350720" cy="466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5867280" y="1143000"/>
            <a:ext cx="603360" cy="6094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0" y="1981080"/>
            <a:ext cx="9144000" cy="47498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7467480" y="44280"/>
            <a:ext cx="1676520" cy="1481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7280" cy="6094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Sensation &amp; Perception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1905120"/>
            <a:ext cx="838188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523880" y="1066680"/>
            <a:ext cx="642960" cy="685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276720" y="1219320"/>
            <a:ext cx="1350720" cy="4665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5867280" y="1143000"/>
            <a:ext cx="603360" cy="6094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28600" y="2209680"/>
            <a:ext cx="304812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ods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ery light sensitive, sense black/white, useful for night 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ne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centrated opposite to lens, color sensitive, requires more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429000" y="2286000"/>
            <a:ext cx="5750640" cy="3809880"/>
            <a:chOff x="3429000" y="2286000"/>
            <a:chExt cx="5750640" cy="3809880"/>
          </a:xfrm>
        </p:grpSpPr>
        <p:sp>
          <p:nvSpPr>
            <p:cNvPr id="158" name=""/>
            <p:cNvSpPr/>
            <p:nvPr/>
          </p:nvSpPr>
          <p:spPr>
            <a:xfrm>
              <a:off x="3429000" y="2909880"/>
              <a:ext cx="5715000" cy="0"/>
            </a:xfrm>
            <a:prstGeom prst="line">
              <a:avLst/>
            </a:prstGeom>
            <a:ln w="5724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34760" y="2286000"/>
              <a:ext cx="499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ceptors in the Human Ey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29000" y="3547080"/>
              <a:ext cx="5715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429000" y="3971880"/>
              <a:ext cx="5715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4679640"/>
              <a:ext cx="5715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997240" y="3110400"/>
              <a:ext cx="111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Co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63320" y="3110400"/>
              <a:ext cx="9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Ro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75800" y="3579480"/>
              <a:ext cx="114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475440" y="4027680"/>
              <a:ext cx="1607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cation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ti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29000" y="5529240"/>
              <a:ext cx="5715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74000" y="4781520"/>
              <a:ext cx="1819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nsitivity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 ligh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74000" y="5631120"/>
              <a:ext cx="21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lor sensitive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29000" y="6095880"/>
              <a:ext cx="5715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54480" y="5631120"/>
              <a:ext cx="63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54120" y="478152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53040" y="4026240"/>
              <a:ext cx="98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en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53760" y="3579480"/>
              <a:ext cx="120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 mill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687800" y="563400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687440" y="4781520"/>
              <a:ext cx="74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ig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686720" y="40276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eriphe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86720" y="3579480"/>
              <a:ext cx="149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0 mill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7467480" y="44280"/>
            <a:ext cx="1676520" cy="1481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1905120"/>
            <a:ext cx="838188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8762760" cy="68072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7280" cy="60948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Sensation &amp; Perception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1905120"/>
            <a:ext cx="838188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523880" y="1066680"/>
            <a:ext cx="642960" cy="685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3276720" y="1219320"/>
            <a:ext cx="1350720" cy="4665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5867280" y="1143000"/>
            <a:ext cx="603360" cy="6094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7467480" y="44280"/>
            <a:ext cx="1676520" cy="14814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6"/>
          <a:stretch/>
        </p:blipFill>
        <p:spPr>
          <a:xfrm>
            <a:off x="2895480" y="3062160"/>
            <a:ext cx="5867640" cy="36435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905120"/>
            <a:ext cx="9144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Trichromatic (three color) The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different retinal color recep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ahoma"/>
              </a:rPr>
              <a:t>g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b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7280" cy="6094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Sensation &amp; Perception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3520" y="1905120"/>
            <a:ext cx="838188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1523880" y="1066680"/>
            <a:ext cx="642960" cy="6858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3276720" y="1219320"/>
            <a:ext cx="1350720" cy="4665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5867280" y="1143000"/>
            <a:ext cx="603360" cy="6094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28600" y="2362320"/>
            <a:ext cx="4038480" cy="36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lor Deficienc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color blindne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or all of the cones do not function properly (geneti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Color Blindness Test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!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(Cli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6"/>
          <a:stretch/>
        </p:blipFill>
        <p:spPr>
          <a:xfrm>
            <a:off x="4432320" y="1828800"/>
            <a:ext cx="4711680" cy="48006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7"/>
          <a:stretch/>
        </p:blipFill>
        <p:spPr>
          <a:xfrm>
            <a:off x="7467480" y="44280"/>
            <a:ext cx="1676520" cy="1481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7280" cy="6094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Sensation &amp; Perception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3520" y="1905120"/>
            <a:ext cx="838188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523880" y="1066680"/>
            <a:ext cx="642960" cy="6858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3276720" y="1219320"/>
            <a:ext cx="1350720" cy="4665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5867280" y="1143000"/>
            <a:ext cx="603360" cy="6094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533520" y="2133720"/>
            <a:ext cx="7162560" cy="40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inocular Fus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combination of the eye’s two separate images into 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tinal Disparity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difference between the images sensed by each ret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tereopsi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ability to see depth as a result of retinal dispa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5"/>
          <a:stretch/>
        </p:blipFill>
        <p:spPr>
          <a:xfrm>
            <a:off x="7467480" y="44280"/>
            <a:ext cx="1676520" cy="1481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7280" cy="60948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Sensation &amp; Perception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3520" y="4419720"/>
            <a:ext cx="838188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1523880" y="1066680"/>
            <a:ext cx="642960" cy="6858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3276720" y="1219320"/>
            <a:ext cx="1350720" cy="4665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5867280" y="1143000"/>
            <a:ext cx="603360" cy="6094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5"/>
          <a:stretch/>
        </p:blipFill>
        <p:spPr>
          <a:xfrm>
            <a:off x="7467480" y="44280"/>
            <a:ext cx="1676520" cy="14814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6"/>
          <a:stretch/>
        </p:blipFill>
        <p:spPr>
          <a:xfrm>
            <a:off x="609480" y="1949400"/>
            <a:ext cx="8229600" cy="49086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19:48:30Z</dcterms:created>
  <dc:creator>Martel</dc:creator>
  <dc:description/>
  <dc:language>en-US</dc:language>
  <cp:lastModifiedBy>Authorized User</cp:lastModifiedBy>
  <dcterms:modified xsi:type="dcterms:W3CDTF">2007-01-11T12:45:23Z</dcterms:modified>
  <cp:revision>200</cp:revision>
  <dc:subject/>
  <dc:title>No Slide Title</dc:title>
</cp:coreProperties>
</file>